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330-465E-4E44-AEB3-A3BECE31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C22-0EFB-4F2F-9861-C08A1FA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538-7BF9-4553-9362-C01E6F7B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6A2-6B35-42D3-89E2-FDA1C43B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D72-267C-4235-B34D-69B8BD37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826-3931-4E5D-8DA3-D13D20A2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2F8-6269-4BF2-B740-B4356B18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06A-A756-4BC2-AEB5-0EA68DDC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6D7-6E35-4089-B9F9-A28B9777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5DE-AAE0-44D1-BF82-A4AAB66A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23A-3779-4A2A-8D1D-9CBD4A2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F9D-632A-40E8-92D8-6A457C9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23F-136D-4899-BA3F-99165D51B3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9040" y="1981080"/>
            <a:ext cx="386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838080" y="91440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8432" r="0" b="8775"/>
          <a:stretch/>
        </p:blipFill>
        <p:spPr>
          <a:xfrm>
            <a:off x="1066680" y="3962520"/>
            <a:ext cx="693432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43200" y="3505320"/>
            <a:ext cx="3359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26161"/>
          <a:stretch/>
        </p:blipFill>
        <p:spPr>
          <a:xfrm>
            <a:off x="1371600" y="457200"/>
            <a:ext cx="6477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8557" r="0" b="7610"/>
          <a:stretch/>
        </p:blipFill>
        <p:spPr>
          <a:xfrm>
            <a:off x="1219320" y="2133720"/>
            <a:ext cx="6629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8306" r="0" b="7610"/>
          <a:stretch/>
        </p:blipFill>
        <p:spPr>
          <a:xfrm>
            <a:off x="1295280" y="1905120"/>
            <a:ext cx="6400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9526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10666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51346"/>
          <a:stretch/>
        </p:blipFill>
        <p:spPr>
          <a:xfrm>
            <a:off x="1143000" y="60948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46802" r="0" b="19514"/>
          <a:stretch/>
        </p:blipFill>
        <p:spPr>
          <a:xfrm>
            <a:off x="1143000" y="335268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53348" r="0" b="36362"/>
          <a:stretch/>
        </p:blipFill>
        <p:spPr>
          <a:xfrm>
            <a:off x="762120" y="3048120"/>
            <a:ext cx="7315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23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63650" r="0" b="30755"/>
          <a:stretch/>
        </p:blipFill>
        <p:spPr>
          <a:xfrm>
            <a:off x="7621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69270" r="0" b="25135"/>
          <a:stretch/>
        </p:blipFill>
        <p:spPr>
          <a:xfrm>
            <a:off x="9907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9907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3345"/>
          <a:stretch/>
        </p:blipFill>
        <p:spPr>
          <a:xfrm>
            <a:off x="11430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3939" r="0" b="19514"/>
          <a:stretch/>
        </p:blipFill>
        <p:spPr>
          <a:xfrm>
            <a:off x="762120" y="3276720"/>
            <a:ext cx="731520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8380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1143000" y="609480"/>
            <a:ext cx="7238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10815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066680" y="83808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2286000"/>
            <a:ext cx="1143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604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3760" y="243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144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838080"/>
            <a:ext cx="6858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483"/>
          <a:stretch/>
        </p:blipFill>
        <p:spPr>
          <a:xfrm>
            <a:off x="990720" y="838080"/>
            <a:ext cx="73911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54100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147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19:30Z</dcterms:modified>
  <cp:revision>211</cp:revision>
  <dc:subject/>
  <dc:title>Slide 1</dc:title>
</cp:coreProperties>
</file>